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DAE-E541-4560-B3C1-6322DD43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068-9352-41A5-B9FC-672F824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B54-7AFE-4478-98F3-77EAF2C1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66B-B566-487A-8CAD-A52FC25A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AA2-CA0A-480A-849D-680D4E0E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12E-933A-49F7-9873-F9BBC47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1F5-F77F-49C6-8EDA-46BD95AA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264-DED9-48F6-9D6C-3A8E86B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25B-5E24-4C2D-8A09-96C240C2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E18-0F80-4148-8975-89167DD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17B-F97A-401B-ADE3-6EE6A6F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FE4-1D0F-4CE4-A875-ED2EC8C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24D-3A12-4992-9F94-B765ED3CD0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t.b.v. interviewen innove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at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ntact opbouw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soorten vrag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755640" y="2533680"/>
            <a:ext cx="53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, gesloten en keuze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e en indirect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f lineair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lectiev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torisch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ypothetische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n-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oede interviewer past beide flexibel to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Arial"/>
              </a:rPr>
              <a:t>Succe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informatie in één gesprek verzam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nticipatie tijdens gesp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aardering (medewerking) van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euze geïnterviewde (algem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is je doelstell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is het meest geschikt of informatie te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e in bedrijf/functie maatschappij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 in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ak maken (neutrale plaat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fd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oor ogen (fuik/omgekeerde fu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v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strak opv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ings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 onde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bew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ventueel confronteren (nooit suggestief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ndig laatste vraag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d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ebeurt er met het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de geïnterviewde merken dat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t, 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ïnteresseerd bent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m/haar waard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pen h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n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m-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h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afras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vat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57:21Z</dcterms:created>
  <dc:creator>Robert Onderstijn</dc:creator>
  <dc:description/>
  <dc:language>en-US</dc:language>
  <cp:lastModifiedBy>Herma</cp:lastModifiedBy>
  <dcterms:modified xsi:type="dcterms:W3CDTF">2011-06-21T13:21:37Z</dcterms:modified>
  <cp:revision>5</cp:revision>
  <dc:subject/>
  <dc:title>Interviewtechniek HLB24</dc:title>
</cp:coreProperties>
</file>